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024-987B-42C7-9872-80F6C2FA554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3F0-01BC-410F-BAE2-567C35B25EA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376D-BC63-4AD7-8E78-A0B88ECB9541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31F8-C863-4C3D-9CC3-AD2622B10B2A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6FBA-564C-4229-BAB0-C6813624938B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16B-5663-4EB8-98C8-EE753E749C1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6DB-9745-4F44-A962-3BF2DE3E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81C-4351-41EA-87A3-5B187A97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FC-9918-45CF-A7B7-AB9D5A23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E19-00E1-44CE-85C7-A9036D9C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04C-7918-4536-9339-E48B3A46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FA1-8980-41C6-B7A5-3D98434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4405-D644-428C-B342-C967112B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9E3-A4E8-4BDD-B5B2-6B63417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138-6330-485A-8DD4-C96848C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82F7-7FF9-4E76-9EB0-A65A4E32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7F0-B393-411C-8326-270BDF6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8B1-1793-497C-BF5A-E2718D76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FEE-474C-48C7-8A8D-7B94A52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14D-6FDE-4FA9-8EE8-5C9D291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CC0-6C5A-4E16-9882-22EFB83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6625-23FC-4974-8E1B-C33A5571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E04C-6A4F-4AD3-BDF9-94A53BA2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29C7-172F-44CF-ACD1-2B51A0EB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747F-BD67-4BA8-A92B-7C88EF24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A986-8E43-4F8F-8A1B-F073883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FE80-71C9-413D-9FA3-2E3D11C7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4E5A-3373-4438-9E0A-E40D2E5A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C1C-2A23-43D7-AFF7-8CDB586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04D1-6FEF-4407-B3F4-83EE2AD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5771-C9FC-4B64-BC91-C8B2A28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63F5-A452-40FD-9662-EEDF8583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0409-E2F7-4ECB-9E73-557AA23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220A-F842-4352-877A-1ECAFC47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752F-D1AB-4B16-B993-81D04A03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10C2-18E5-497B-BE9D-599E942E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5815-76BF-4964-A4A2-EB152EA5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D8AA-FBE8-4618-B201-FC4F662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C97D-A862-495A-913D-5878E25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EBB-1258-41E5-8307-31D563AF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2DC6-3739-439B-8BAC-10DECA17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C80C-8B74-4D78-ACCC-4233AF4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6D86-E232-405C-B9C2-FE65CDF8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0868-468C-4B58-A723-D1E0B6F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0C3D-CDA9-44B3-83AB-D76A0EC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FE6A-CBD7-4735-B0F8-796DFADC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8D34-4C46-421F-A96C-D864CCC6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7375-B2BC-47FD-89CB-25CBDE62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E9FB-B865-4681-905E-BCA22961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8B2F-9D13-4119-A3AA-75940351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33B-9166-46ED-99F0-CE217EB9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0EC9-E18E-42CA-8E05-174F3C28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68C7-0A25-448B-8B26-E736FB20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72CC-9577-451D-805D-70FA2F9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817F-336C-49AD-B63C-798CAEA5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7C05-A47F-4D54-9FE2-C04C6A4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03A9-0BE5-45F7-9323-07493BE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62B29-EFE2-4206-818A-F0511B6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58D81-8E2D-4A08-A793-B3668C0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58A0-CE90-4AEF-ADA8-508232F3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DFD8-3EE6-46A3-B58A-73F8D6B0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15B-FD20-4578-A3AA-C4BC710C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73BC-0C85-43AA-80D0-A163713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750C-BDC2-4010-A8F5-56D74F8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5431-E559-4391-9EB3-52D8923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85CF-A99E-4CA9-B26B-E61008D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C6F0-4E73-41EB-8607-9FAF2D8C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E2DF6-A76D-4053-96F3-70DADB08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1727-F770-4D76-A982-47F88DB1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9FF3-CD60-4B2E-9399-5D65C4F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43B8-9A01-4AB6-BB49-523DB11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6FF8-0170-4CED-B404-5658635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49D-5B2F-41B5-A301-32EB60A8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06689-AAC0-4AE4-A3F7-AF00D74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74A7-807F-419C-A805-73055B2E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07963-539E-4ECB-B1C6-5E349108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BAAB-AA88-48AB-B73E-2A76F802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14A64-1BFB-4570-B956-37A2AFF1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6895-E3AE-4EC8-A960-844B63AF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B9BC0-A1EC-409C-8637-904CE793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B959-FF1D-4D25-95E7-9CC27167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5A00-4606-446F-A8CE-207BEAC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C18A-CCBC-419D-8811-97EBB37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C67-28AB-4E69-A9BB-BA0F03B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6396-876D-477A-9BE6-4F3264C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15B6-2B23-4F09-9D12-9E603CC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28F3-399B-44B2-A3AA-8C38522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9EBD4-EDC8-4497-8E22-68507144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B8014-2889-43F5-A5F9-BF19DBB2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252-5737-49D3-9DE1-C5EDF751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B47-3C74-415C-A3D2-D7BF244D31EC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uorakulmi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Suorakulmi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Suorakulmi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Suorakulmi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Suorakulmi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Suorakulmi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Suorakulmi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Suorakulmi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Suorakulmi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1627-F0C7-4E7A-95C4-363B71D630EA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uolivapaa piirto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uolivapaa piirto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uolivapaa piirto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uolivapaa piirto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uolivapaa piirto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uolivapaa piirto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uolivapaa piirto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uolivapaa piirto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uolivapaa piirto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uolivapaa piirto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uolivapaa piirto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uolivapaa piirto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uolivapaa piirto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uolivapaa piirto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uolivapaa piirto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Suorakulmi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Suorakulmi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Suorakulmi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Suorakulmi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uorakulmi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Suorakulmi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8892-4DFF-4AE2-81F9-D8F7F6161B20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D654-E715-4E4B-8ED1-211C14B72BD7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uorakulmi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Suorakulmi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Suorakulmi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Suorakulmi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Suorakulmi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Suorakulmi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Suorakulmi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Suorakulmi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Suorakulmi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Suorakulmi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8BC0-A38E-4D92-9AE6-1A30BEDE317B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854-2B12-43EF-94F2-7DE63E941F8B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Suorakulmi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uora yhdysviiv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Ryhmä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uora yhdysviiva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uora yhdysviiva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uora yhdysviiva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Ryhmä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uora yhdysviiva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uora yhdysviiva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uora yhdysviiva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Ryhmä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uora yhdysviiva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uora yhdysviiva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uora yhdysviiva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638-D4C3-4D60-9F72-F9C32968EFEB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Otsikko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Elimistön puolustusjärjestelmän tärkeimpiä tehtäviä on torjua haitallisten mikrobien hyökkäykset ja pitää normaaliin mikrobistoon kuuluvat mikrobit omilla alueillaa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Valkosolu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lkosolut suojaavat elimistöä bakteereita ja viruksia vastaa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Ne lisääntyvät tulehduksen aikan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Kun bakteeri pääsee ihmiskehoon, alkaa se lisääntymään nopeasti. Elimistö havaitsee tämän, ja lähettää paikalle valkosoluj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lkosolut hävittävät bakteerit. Tällöin syntyy tulehduskohta, joka märkii ja punoitta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valkosolut voittavat taistelun, bakteerit kuolevat ja tulehdus parane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bakteerit voittavat, voivat ne levitä mm. imusolmukkeisiin</a:t>
            </a: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a aiheuttaa niiden tulehtumista ja kuumetta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Vastustuskyk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Vastustuskykyyn vaikuttavat monet hyvinvoinnin osatekijät, kuten terveydentila, elämän-tilanteen stressaavuus ja ravitsemus. Liikunta kohentaa yleiskuntoa, ja hyväkuntoisella on yleensä myös hyvä vastustuskyk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Tiettyä mikrobia vastaan valmistettu vasta-aine säilyy elimistössämme jonkin aika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Kun elimistössämme on vasta-ainetta, ei kyseinen mikrobi voi elää meissä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Tällöin olemme vastustuskykyisiä, eli immuuneja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Corbel"/>
              </a:rPr>
              <a:t>Jos elimistöön tulee jatkossa samoja mikrobeja, muistavat tietyt valkosolut nämä, ja pystyvät valmistamaan nopeasti vasta-ainett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Roko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astustuskyky tautia vastaan pystytään hankkimaan myös rokotuksell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Rokottaessa elimistöön pistetään kuolleita tai toimintakyvyttömiä mikrobej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Tällöin vasta-aineita alkaa muodostua, vaikkei taudin syntymisestä ole vaara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asta-aine synnyttää kehossamme samanlaisen immuunireaktion, kun kyseessä olisi elävä mikrob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Eri rokotusten antama immuunius kestää eripituisen aja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Jos ihminen on sairaana, ei rokottamisesta ole mitään hyötyä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55:53Z</dcterms:created>
  <dc:creator>Ritva Tamminen</dc:creator>
  <dc:description/>
  <dc:language>en-US</dc:language>
  <cp:lastModifiedBy>Ritva Tamminen</cp:lastModifiedBy>
  <dcterms:modified xsi:type="dcterms:W3CDTF">2010-02-07T14:26:16Z</dcterms:modified>
  <cp:revision>3</cp:revision>
  <dc:subject/>
  <dc:title>Elimistön puolustusjärjestelmä</dc:title>
</cp:coreProperties>
</file>